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1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44.jpeg" ContentType="image/jpeg"/>
  <Override PartName="/ppt/media/image43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36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4590-1269-41DF-9E9B-A36396BC7B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D92A-DAD7-48EA-99E5-E8B68A67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EAB4E-9656-47D7-9F53-1EC20BAA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62AB-BB31-4A17-B7DD-1AD0E3F3A1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DD7A-4D2C-4261-B54C-156BC238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042B0-CEEB-4BE4-9E53-9DD44DE9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811BB-199A-48B4-927F-3ECBB0C8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3D3AE-3C36-47C2-BBCA-EEA79A88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1E055-7CEA-430C-88E2-9ED88993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00B5E-C565-437A-B5C8-8A883F00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04AD-95E1-475E-8A03-AD223B0E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1064F-8E70-4F63-AFA5-C6CE7EF0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760D5-0CE3-412C-B86C-3638F7E5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A4B84-E8F2-4BEC-9F38-01F74B59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BF0E0-A29D-406E-9774-C245D916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19DE9-626E-42D9-8A7C-F36CF95E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B3DC1-3F7D-4EE8-AD0C-F482FD3F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58F24-E4E0-40F3-A62F-19B40AED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160E-E55C-413C-A037-F819DF5D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CE18-9EA0-40AF-BA60-4C846E7D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357120"/>
            <a:ext cx="80773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6A2E1-A6D2-4074-9984-36390EF8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BD26-F9E1-4E5E-A968-8CA057F1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765E-834A-40B8-8100-F24170B6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472AA-F715-43C9-B44B-AE70E5E7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0724-F342-4C9A-9775-C33235C3F3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5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2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3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7"/>
              <p:cNvSpPr/>
              <p:nvPr/>
            </p:nvSpPr>
            <p:spPr>
              <a:xfrm>
                <a:off x="28440" y="50508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98"/>
            <p:cNvGrpSpPr/>
            <p:nvPr/>
          </p:nvGrpSpPr>
          <p:grpSpPr>
            <a:xfrm>
              <a:off x="0" y="4689360"/>
              <a:ext cx="9097920" cy="405720"/>
              <a:chOff x="0" y="4689360"/>
              <a:chExt cx="9097920" cy="405720"/>
            </a:xfrm>
          </p:grpSpPr>
          <p:sp>
            <p:nvSpPr>
              <p:cNvPr id="56" name="Freeform 99"/>
              <p:cNvSpPr/>
              <p:nvPr/>
            </p:nvSpPr>
            <p:spPr>
              <a:xfrm flipV="1">
                <a:off x="0" y="4689000"/>
                <a:ext cx="9097920" cy="34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Freeform 100"/>
              <p:cNvSpPr/>
              <p:nvPr/>
            </p:nvSpPr>
            <p:spPr>
              <a:xfrm flipV="1">
                <a:off x="0" y="4732560"/>
                <a:ext cx="9097920" cy="3621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5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23660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6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5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4A07-BADA-431E-B03B-CF9A680E4FC2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七章  舒适与安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6760" y="12139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屈膝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3840" y="207180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腹部检査的患者，可使肌肉放松，便于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行导尿术、会阴冲洗时，便于暴露操作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5429160" y="4214880"/>
            <a:ext cx="3143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剪贴画占位符 7" descr="图7-3 屈膝仰卧位.jpg"/>
          <p:cNvPicPr/>
          <p:nvPr/>
        </p:nvPicPr>
        <p:blipFill>
          <a:blip r:embed="rId3"/>
          <a:stretch/>
        </p:blipFill>
        <p:spPr>
          <a:xfrm>
            <a:off x="5214960" y="2428920"/>
            <a:ext cx="34732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477" name="WordArt 3" descr=""/>
          <p:cNvPicPr/>
          <p:nvPr/>
        </p:nvPicPr>
        <p:blipFill>
          <a:blip r:embed="rId1"/>
          <a:stretch/>
        </p:blipFill>
        <p:spPr>
          <a:xfrm>
            <a:off x="1689120" y="2779560"/>
            <a:ext cx="577224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143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侧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side-ly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142920" y="1643040"/>
            <a:ext cx="5429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灌肠，肛门检査，配合胃镜、肠镜检査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压疮，侧卧位与平卧位交替，避免局部组织长期受压，便于护理局部受压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臀部肌内注射时，下腿弯曲，上腿伸直，可放松注射部位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6" descr="图7-4 侧卧位.jpg"/>
          <p:cNvPicPr/>
          <p:nvPr/>
        </p:nvPicPr>
        <p:blipFill>
          <a:blip r:embed="rId4"/>
          <a:stretch/>
        </p:blipFill>
        <p:spPr>
          <a:xfrm>
            <a:off x="5572080" y="2786040"/>
            <a:ext cx="3429000" cy="2170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000840" y="4857840"/>
            <a:ext cx="25002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214280"/>
            <a:ext cx="7000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三）半坐卧位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fowler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71680" y="214308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某些面部及颈部手术后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恢复期体质虚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86" name="内容占位符 4" descr="图7-5 半坐卧位（摇床法）.jpg"/>
          <p:cNvPicPr/>
          <p:nvPr/>
        </p:nvPicPr>
        <p:blipFill>
          <a:blip r:embed="rId1"/>
          <a:stretch/>
        </p:blipFill>
        <p:spPr>
          <a:xfrm>
            <a:off x="428760" y="1928880"/>
            <a:ext cx="3882960" cy="2786040"/>
          </a:xfrm>
          <a:prstGeom prst="rect">
            <a:avLst/>
          </a:prstGeom>
          <a:ln w="0">
            <a:noFill/>
          </a:ln>
        </p:spPr>
      </p:pic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8" name="图片 5" descr="图7-6 半坐卧位（靠背架法）.jpg"/>
          <p:cNvPicPr/>
          <p:nvPr/>
        </p:nvPicPr>
        <p:blipFill>
          <a:blip r:embed="rId2"/>
          <a:stretch/>
        </p:blipFill>
        <p:spPr>
          <a:xfrm>
            <a:off x="5072040" y="2000160"/>
            <a:ext cx="3649680" cy="2714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靠背架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28760" y="4857840"/>
            <a:ext cx="40719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半坐卧位（摇床法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5840" y="135720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四）端坐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sitting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6760" y="2142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支气管哮喘发作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力衰竭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包积液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图片 4" descr="图7-7 端坐位.jpg"/>
          <p:cNvPicPr/>
          <p:nvPr/>
        </p:nvPicPr>
        <p:blipFill>
          <a:blip r:embed="rId4"/>
          <a:stretch/>
        </p:blipFill>
        <p:spPr>
          <a:xfrm>
            <a:off x="4357800" y="2286000"/>
            <a:ext cx="4316400" cy="250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2"/>
          <p:cNvSpPr/>
          <p:nvPr/>
        </p:nvSpPr>
        <p:spPr>
          <a:xfrm>
            <a:off x="4786200" y="4857840"/>
            <a:ext cx="40006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端坐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5840" y="1214280"/>
            <a:ext cx="6858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五）俯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prone position</a:t>
            </a:r>
            <a:r>
              <a:rPr b="0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7120" y="1785600"/>
            <a:ext cx="514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腰、背部检查或配合胰、胆管造影检查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胃肠胀气所致腹痛的患者。采取俯卧位，可使腹腔容积增大，缓解胃肠胀气所致的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929200" y="4714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图片 7" descr="图7-8 俯卧位.jpg"/>
          <p:cNvPicPr/>
          <p:nvPr/>
        </p:nvPicPr>
        <p:blipFill>
          <a:blip r:embed="rId4"/>
          <a:stretch/>
        </p:blipFill>
        <p:spPr>
          <a:xfrm>
            <a:off x="5357880" y="2500200"/>
            <a:ext cx="35589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99972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六）头低足高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trendelenburg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584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肺部分泌物引流，使痰液易于咳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十二指肠引流术，有利于胆汁引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跟骨或胫骨结节牵引时，利用人体重力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妊娠时胎膜早破，防止脐带脱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572000" y="289548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图片 9" descr="图7-9 头低足高位.jpg"/>
          <p:cNvPicPr/>
          <p:nvPr/>
        </p:nvPicPr>
        <p:blipFill>
          <a:blip r:embed="rId5"/>
          <a:stretch/>
        </p:blipFill>
        <p:spPr>
          <a:xfrm>
            <a:off x="2786040" y="4357800"/>
            <a:ext cx="3397320" cy="17859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2"/>
          <p:cNvSpPr/>
          <p:nvPr/>
        </p:nvSpPr>
        <p:spPr>
          <a:xfrm>
            <a:off x="3357720" y="5857920"/>
            <a:ext cx="2571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低足高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42920" y="99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七）头高足低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楷体"/>
              </a:rPr>
              <a:t>（</a:t>
            </a:r>
            <a:r>
              <a:rPr b="0" lang="en-US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dorsal elevated position</a:t>
            </a:r>
            <a:r>
              <a:rPr b="0" lang="zh-CN" sz="3300" spc="-1" strike="noStrike">
                <a:solidFill>
                  <a:srgbClr val="0d0d0d"/>
                </a:solidFill>
                <a:latin typeface="Times New Roman"/>
                <a:ea typeface="楷体"/>
              </a:rPr>
              <a:t>）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5840" y="18568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降低颅内压，预防脑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颅脑手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颈椎骨折进行颅骨牵引时作反牵引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7" name="图片 4" descr="图7-10 头高足低位.jpg"/>
          <p:cNvPicPr/>
          <p:nvPr/>
        </p:nvPicPr>
        <p:blipFill>
          <a:blip r:embed="rId4"/>
          <a:stretch/>
        </p:blipFill>
        <p:spPr>
          <a:xfrm>
            <a:off x="2786040" y="3857760"/>
            <a:ext cx="3651120" cy="22730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"/>
          <p:cNvSpPr/>
          <p:nvPr/>
        </p:nvSpPr>
        <p:spPr>
          <a:xfrm>
            <a:off x="3286080" y="5786280"/>
            <a:ext cx="257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头高足低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八）膝胸卧位</a:t>
            </a:r>
            <a:r>
              <a:rPr b="1" lang="zh-CN" sz="3200" spc="-1" strike="noStrike">
                <a:solidFill>
                  <a:srgbClr val="0d0d0d"/>
                </a:solidFill>
                <a:latin typeface="Times New Roman"/>
                <a:ea typeface="方正舒体"/>
              </a:rPr>
              <a:t>（</a:t>
            </a:r>
            <a:r>
              <a:rPr b="0" lang="en-US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knee-chest position</a:t>
            </a:r>
            <a:r>
              <a:rPr b="0" lang="zh-CN" sz="3700" spc="-1" strike="noStrike">
                <a:solidFill>
                  <a:srgbClr val="0d0d0d"/>
                </a:solidFill>
                <a:latin typeface="Times New Roman"/>
                <a:ea typeface="宋体"/>
              </a:rPr>
              <a:t>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7120" y="2142720"/>
            <a:ext cx="678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肛门、直肠、乙状结肠镜检查及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矫正子宫后倾或胎位不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产后子宫复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1" name="图片 4" descr="图7-11 膝胸卧位.jpg"/>
          <p:cNvPicPr/>
          <p:nvPr/>
        </p:nvPicPr>
        <p:blipFill>
          <a:blip r:embed="rId4"/>
          <a:stretch/>
        </p:blipFill>
        <p:spPr>
          <a:xfrm>
            <a:off x="4786200" y="3429000"/>
            <a:ext cx="3967200" cy="2205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5786280" y="56437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膝胸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285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九）截石位</a:t>
            </a:r>
            <a:r>
              <a:rPr b="1" lang="zh-CN" sz="3200" spc="-1" strike="noStrike">
                <a:solidFill>
                  <a:srgbClr val="0d0d0d"/>
                </a:solidFill>
                <a:latin typeface="方正舒体"/>
                <a:ea typeface="方正舒体"/>
              </a:rPr>
              <a:t>（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lithotomic position</a:t>
            </a:r>
            <a:r>
              <a:rPr b="0" lang="zh-CN" sz="3200" spc="-1" strike="noStrike">
                <a:solidFill>
                  <a:srgbClr val="0d0d0d"/>
                </a:solidFill>
                <a:latin typeface="Monotype Corsiv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会阴、肛门部位的检查、治疗或手术，如膀胱镜、妇产科检查、阴道灌洗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产妇分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图片 4" descr="图7-12 截石位.jpg"/>
          <p:cNvPicPr/>
          <p:nvPr/>
        </p:nvPicPr>
        <p:blipFill>
          <a:blip r:embed="rId3"/>
          <a:stretch/>
        </p:blipFill>
        <p:spPr>
          <a:xfrm>
            <a:off x="4857840" y="3214800"/>
            <a:ext cx="3929040" cy="24955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"/>
          <p:cNvSpPr/>
          <p:nvPr/>
        </p:nvSpPr>
        <p:spPr>
          <a:xfrm>
            <a:off x="5715000" y="5857920"/>
            <a:ext cx="25718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截石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00040" y="1370160"/>
            <a:ext cx="8643960" cy="4795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识记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临床上常用卧位的基本要求和适用范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下列概念：主动卧位、被动卧位、被迫卧位、保护具、疼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描述保护具的适用范围及操作中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疼痛的分类和影响疼痛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说出影响患者安全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7120" y="1285560"/>
            <a:ext cx="6097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协助患者翻身侧卧</a:t>
            </a:r>
            <a:r>
              <a:rPr b="0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变换姿势，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预防并发症，如压疮、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满足治疗、检查和护理的需要，如背部皮肤护理、更换床单或整理床单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2143080" y="0"/>
            <a:ext cx="7000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协助患者更换卧位的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4"/>
          <p:cNvSpPr/>
          <p:nvPr/>
        </p:nvSpPr>
        <p:spPr>
          <a:xfrm>
            <a:off x="928800" y="1571760"/>
            <a:ext cx="721512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（适用于体重较轻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（适用于体重较重或病情较重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轴线翻身法（适用于脊椎受损或脊椎手术后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三人协助患者轴线翻身法（适用于颈椎损伤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225" name="内容占位符 4" descr="图7-13 一人协助患者翻身侧卧法.jpg"/>
          <p:cNvPicPr/>
          <p:nvPr/>
        </p:nvPicPr>
        <p:blipFill>
          <a:blip r:embed="rId1"/>
          <a:stretch/>
        </p:blipFill>
        <p:spPr>
          <a:xfrm>
            <a:off x="2286000" y="1000080"/>
            <a:ext cx="4572000" cy="4876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2"/>
          <p:cNvSpPr/>
          <p:nvPr/>
        </p:nvSpPr>
        <p:spPr>
          <a:xfrm>
            <a:off x="2286000" y="5857920"/>
            <a:ext cx="43578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428920" y="5429160"/>
            <a:ext cx="435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翻身侧卧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内容占位符 7" descr="图7-14 二人协助患者翻身侧卧法.jpg"/>
          <p:cNvPicPr/>
          <p:nvPr/>
        </p:nvPicPr>
        <p:blipFill>
          <a:blip r:embed="rId1"/>
          <a:stretch/>
        </p:blipFill>
        <p:spPr>
          <a:xfrm>
            <a:off x="1714680" y="1285920"/>
            <a:ext cx="56768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840" y="10717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根据病情及皮肤受压情况，确定翻身间隔时间。如发现皮肤红肿或破损，应及时处理，并增加翻身次数，做好记录及交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患者翻身时，不可拖拉，防止皮肤擦伤。两人为患者翻身时，动作要协调一致，用力要平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上带有多种导管时，协助翻身前应先安置妥当，翻身后应检查有无脱落、扭曲、移位、受压等，以保持导管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节力原则：翻身时护士应让患者尽量靠近自己，使重力线通过支撑面以保持平衡，缩短重力臂，以达到节力、安全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特殊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协助手术后患者翻身前，应检查伤口敷料，先换药再翻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颅脑手术后患者，头部转动过剧可引起脑疝，导致突然死亡，因此一般只卧于健侧或平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进行骨牵引的患者，翻身时不可放松牵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石膏固定、伤口较大的患者，翻身后应注意将患处置于合适位置，以防受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二）协助患者移向床头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目的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协助滑向床尾而不能自行移动的患者移向床头，恢复舒适而安全的卧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矩形 4"/>
          <p:cNvSpPr/>
          <p:nvPr/>
        </p:nvSpPr>
        <p:spPr>
          <a:xfrm>
            <a:off x="928800" y="171468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【分类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（适用于体重较轻且生活能部分自理的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二人协助患者移向床头法（适用于体重较重或重症患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5880" y="4857480"/>
            <a:ext cx="807696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一人协助患者移向床头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2" descr="F:\希望\编教材\北医护理学基础\第七章 舒适与安全 刘晓慧 第2审\第七章 舒适与安全（图片）\图7-15 一人协助患者移向床头法.jpg"/>
          <p:cNvPicPr/>
          <p:nvPr/>
        </p:nvPicPr>
        <p:blipFill>
          <a:blip r:embed="rId1"/>
          <a:stretch/>
        </p:blipFill>
        <p:spPr>
          <a:xfrm>
            <a:off x="1928880" y="1643040"/>
            <a:ext cx="5664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2220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85880" y="2071440"/>
            <a:ext cx="72864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矩形 4"/>
          <p:cNvSpPr/>
          <p:nvPr/>
        </p:nvSpPr>
        <p:spPr>
          <a:xfrm>
            <a:off x="928800" y="1643040"/>
            <a:ext cx="721512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操作中注意遵循节力原则，指导患者与护士同时用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动作轻稳，避免对患者的拉、拽等动作，防止关节脱位，使患者舒适、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85840" y="1785960"/>
            <a:ext cx="8643960" cy="3724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理解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协助患者更换卧位的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评估内容和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疼痛的发生机制并举例说明疼痛的原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推荐的三阶梯止痛疗法的基本原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二节 疼痛的护理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6"/>
          <p:cNvSpPr/>
          <p:nvPr/>
        </p:nvSpPr>
        <p:spPr>
          <a:xfrm>
            <a:off x="3500280" y="142920"/>
            <a:ext cx="56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疼痛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1"/>
          <p:cNvSpPr/>
          <p:nvPr/>
        </p:nvSpPr>
        <p:spPr>
          <a:xfrm>
            <a:off x="1864440" y="1468440"/>
            <a:ext cx="5130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概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9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国际疼痛研究学会的疼痛定义：是一种令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不快的感觉和情绪上的感受，伴随着现有的或潜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组织损伤”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97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北美护理诊断协会对疼痛所下的定义：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体经受或叙述有严重不适或不舒服的感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064600" y="1789200"/>
            <a:ext cx="50878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的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形成的神经传导基本过程可分为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阶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伤害感受器的痛觉传感，一级传入纤维、脊髓背角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脊髓－丘脑束等上行束的痛觉传递，皮层和边缘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统的痛觉整合，下行控制和神经介质的痛觉调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1977120" y="1465200"/>
            <a:ext cx="490500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急性疼痛为伤害感受性疼痛。伤害感受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发生机制是疼痛形成的神经传导基本过程。机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受到物理、化学或炎症刺激后产生急性疼痛的痛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信号，并通过神经传导及大脑的分析而感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357200" y="153180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慢性疼痛的发生机制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伤害感受器过度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受损神经异位电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痛觉传导离子通道和受体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中枢神经系统重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1357200" y="1214280"/>
            <a:ext cx="6083280" cy="4572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三）疼痛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性质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刺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酸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跳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点击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1357200" y="1158840"/>
            <a:ext cx="6083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部位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局部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放射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扩散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牵涉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3"/>
          <p:cNvSpPr/>
          <p:nvPr/>
        </p:nvSpPr>
        <p:spPr>
          <a:xfrm>
            <a:off x="1285920" y="4357800"/>
            <a:ext cx="528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的病因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理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1357200" y="1812960"/>
            <a:ext cx="6083280" cy="2652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疼痛的持续时间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慢性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6"/>
          <p:cNvSpPr/>
          <p:nvPr/>
        </p:nvSpPr>
        <p:spPr>
          <a:xfrm>
            <a:off x="2071800" y="21420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疼痛的原因及影响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"/>
          <p:cNvSpPr/>
          <p:nvPr/>
        </p:nvSpPr>
        <p:spPr>
          <a:xfrm>
            <a:off x="1428840" y="1650960"/>
            <a:ext cx="63691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化学刺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物理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病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1428840" y="1570680"/>
            <a:ext cx="6369120" cy="4093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影响疼痛的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性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人经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宗教信仰与文化背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"/>
          <p:cNvSpPr/>
          <p:nvPr/>
        </p:nvSpPr>
        <p:spPr>
          <a:xfrm>
            <a:off x="292896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57160" y="1071720"/>
            <a:ext cx="7416720" cy="3399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运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病情、治疗和患者的实际需要，为其安置舒适卧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结合疼痛患者的实际情况采取有效的控制疼痛的护理措施。</a:t>
            </a: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能针对医院内常见的不安全因素采取有效的防范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2e4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452e46"/>
                </a:solidFill>
                <a:latin typeface="宋体"/>
                <a:ea typeface="宋体"/>
              </a:rPr>
              <a:t>根据患者的病情及需要，正确选择和科学使用各种保护具，保证患者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1428840" y="1236600"/>
            <a:ext cx="636912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的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疲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社会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疼痛意义的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对方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6"/>
          <p:cNvSpPr/>
          <p:nvPr/>
        </p:nvSpPr>
        <p:spPr>
          <a:xfrm>
            <a:off x="2857680" y="214200"/>
            <a:ext cx="628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疼痛患者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1"/>
          <p:cNvSpPr/>
          <p:nvPr/>
        </p:nvSpPr>
        <p:spPr>
          <a:xfrm>
            <a:off x="1285920" y="1242000"/>
            <a:ext cx="6929280" cy="580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一）疼痛的护理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性别和年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职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诱发因素和起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性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疼痛的伴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精神状态及有关心理社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1285920" y="180216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交谈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临床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评估工具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视觉模拟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图片 5" descr="图7-16视觉模拟评分量表.jpg"/>
          <p:cNvPicPr/>
          <p:nvPr/>
        </p:nvPicPr>
        <p:blipFill>
          <a:blip r:embed="rId1"/>
          <a:stretch/>
        </p:blipFill>
        <p:spPr>
          <a:xfrm>
            <a:off x="1500120" y="3429000"/>
            <a:ext cx="58928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文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图片 6" descr="图7-17 文字评价量表.jpg"/>
          <p:cNvPicPr/>
          <p:nvPr/>
        </p:nvPicPr>
        <p:blipFill>
          <a:blip r:embed="rId1"/>
          <a:stretch/>
        </p:blipFill>
        <p:spPr>
          <a:xfrm>
            <a:off x="1928880" y="3714840"/>
            <a:ext cx="56433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"/>
          <p:cNvSpPr/>
          <p:nvPr/>
        </p:nvSpPr>
        <p:spPr>
          <a:xfrm>
            <a:off x="1143000" y="1808640"/>
            <a:ext cx="6929280" cy="3521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数字评价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" name="图片 4" descr="图7-18 数字评价量表.jpg"/>
          <p:cNvPicPr/>
          <p:nvPr/>
        </p:nvPicPr>
        <p:blipFill>
          <a:blip r:embed="rId1"/>
          <a:stretch/>
        </p:blipFill>
        <p:spPr>
          <a:xfrm>
            <a:off x="1857240" y="3500280"/>
            <a:ext cx="554832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1143000" y="1236240"/>
            <a:ext cx="692928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强度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Prince-Henry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五指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 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分量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面部表情疼痛评定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图片 5" descr="图7-19 面部表情疼痛评定法.jpg"/>
          <p:cNvPicPr/>
          <p:nvPr/>
        </p:nvPicPr>
        <p:blipFill>
          <a:blip r:embed="rId1"/>
          <a:stretch/>
        </p:blipFill>
        <p:spPr>
          <a:xfrm>
            <a:off x="1285920" y="4429080"/>
            <a:ext cx="603252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1143000" y="1705320"/>
            <a:ext cx="6929280" cy="372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McGill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简明疼痛问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500040" y="2102400"/>
            <a:ext cx="8215200" cy="4664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评估工具的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——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WHO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疼痛程度的分级标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：无痛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轻度疼痛）：有疼痛感但不严重，可忍受、睡眠不受影响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中度疼痛）：疼痛明显，不能忍受，睡眠受干扰，要求用镇痛药。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级（重度疼痛）：疼痛剧烈，不能忍受，睡眠严重受干扰，需要镇痛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500040" y="959760"/>
            <a:ext cx="8215200" cy="6949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二）疼痛患者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减少或解除疼痛刺激源</a:t>
            </a:r>
            <a:br>
              <a:rPr sz="2800"/>
            </a:b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采用适宜的止痛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药物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皮肤刺激法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针灸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神经破坏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椎管内或脑室内置管镇痛法</a:t>
            </a:r>
            <a:br>
              <a:rPr sz="32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5880" y="2356920"/>
            <a:ext cx="75722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52e46"/>
                </a:solidFill>
                <a:latin typeface="宋体"/>
                <a:ea typeface="宋体"/>
              </a:rPr>
              <a:t>第一节 患者卧位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57120"/>
            <a:ext cx="80773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宋体"/>
                <a:ea typeface="宋体"/>
              </a:rPr>
              <a:t>WHO</a:t>
            </a:r>
            <a:r>
              <a:rPr b="1" lang="zh-CN" sz="3200" spc="-1" strike="noStrike">
                <a:solidFill>
                  <a:srgbClr val="dddddd"/>
                </a:solidFill>
                <a:latin typeface="宋体"/>
                <a:ea typeface="宋体"/>
              </a:rPr>
              <a:t>三阶梯止痛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468360" y="1339920"/>
            <a:ext cx="8207280" cy="73080"/>
          </a:xfrm>
          <a:prstGeom prst="rect">
            <a:avLst/>
          </a:prstGeom>
          <a:gradFill rotWithShape="0">
            <a:gsLst>
              <a:gs pos="0">
                <a:srgbClr val="00cc66"/>
              </a:gs>
              <a:gs pos="50000">
                <a:srgbClr val="dcf8ea"/>
              </a:gs>
              <a:gs pos="100000">
                <a:srgbClr val="00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4" descr="图片2"/>
          <p:cNvPicPr/>
          <p:nvPr/>
        </p:nvPicPr>
        <p:blipFill>
          <a:blip r:embed="rId1"/>
          <a:stretch/>
        </p:blipFill>
        <p:spPr>
          <a:xfrm>
            <a:off x="468360" y="1449360"/>
            <a:ext cx="795636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500040" y="1269360"/>
            <a:ext cx="8215200" cy="752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心理护理</a:t>
            </a:r>
            <a:br>
              <a:rPr sz="2800"/>
            </a:b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减轻心理压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提供社会心理支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转移注意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音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松弛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指导想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生物反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"/>
          <p:cNvSpPr/>
          <p:nvPr/>
        </p:nvSpPr>
        <p:spPr>
          <a:xfrm>
            <a:off x="500040" y="1996560"/>
            <a:ext cx="8215200" cy="4230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促进患者舒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56800" y="2356920"/>
            <a:ext cx="7572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d0d0d"/>
                </a:solidFill>
                <a:latin typeface="宋体"/>
                <a:ea typeface="宋体"/>
              </a:rPr>
              <a:t>第三节 患者安全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8"/>
          <p:cNvSpPr/>
          <p:nvPr/>
        </p:nvSpPr>
        <p:spPr>
          <a:xfrm>
            <a:off x="2286000" y="1429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影响患者安全的因素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16"/>
          <p:cNvGrpSpPr/>
          <p:nvPr/>
        </p:nvGrpSpPr>
        <p:grpSpPr>
          <a:xfrm>
            <a:off x="1285920" y="1714680"/>
            <a:ext cx="2571840" cy="642600"/>
            <a:chOff x="1285920" y="1714680"/>
            <a:chExt cx="2571840" cy="642600"/>
          </a:xfrm>
        </p:grpSpPr>
        <p:sp>
          <p:nvSpPr>
            <p:cNvPr id="286" name="AutoShape 17"/>
            <p:cNvSpPr/>
            <p:nvPr/>
          </p:nvSpPr>
          <p:spPr>
            <a:xfrm>
              <a:off x="1285920" y="178596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Text Box 18">
              <a:hlinkClick r:id="rId1" action="ppaction://hlinksldjump"/>
            </p:cNvPr>
            <p:cNvSpPr/>
            <p:nvPr/>
          </p:nvSpPr>
          <p:spPr>
            <a:xfrm>
              <a:off x="1642680" y="1714680"/>
              <a:ext cx="1987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年龄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8" name="Group 16"/>
          <p:cNvGrpSpPr/>
          <p:nvPr/>
        </p:nvGrpSpPr>
        <p:grpSpPr>
          <a:xfrm>
            <a:off x="1285920" y="2643120"/>
            <a:ext cx="2571840" cy="642600"/>
            <a:chOff x="1285920" y="2643120"/>
            <a:chExt cx="2571840" cy="642600"/>
          </a:xfrm>
        </p:grpSpPr>
        <p:sp>
          <p:nvSpPr>
            <p:cNvPr id="289" name="AutoShape 17"/>
            <p:cNvSpPr/>
            <p:nvPr/>
          </p:nvSpPr>
          <p:spPr>
            <a:xfrm>
              <a:off x="1285920" y="271440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18">
              <a:hlinkClick r:id="rId2" action="ppaction://hlinksldjump"/>
            </p:cNvPr>
            <p:cNvSpPr/>
            <p:nvPr/>
          </p:nvSpPr>
          <p:spPr>
            <a:xfrm>
              <a:off x="1571760" y="264312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意识状态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6"/>
          <p:cNvGrpSpPr/>
          <p:nvPr/>
        </p:nvGrpSpPr>
        <p:grpSpPr>
          <a:xfrm>
            <a:off x="1285920" y="3714840"/>
            <a:ext cx="2571840" cy="642600"/>
            <a:chOff x="1285920" y="3714840"/>
            <a:chExt cx="2571840" cy="642600"/>
          </a:xfrm>
        </p:grpSpPr>
        <p:sp>
          <p:nvSpPr>
            <p:cNvPr id="292" name="AutoShape 17"/>
            <p:cNvSpPr/>
            <p:nvPr/>
          </p:nvSpPr>
          <p:spPr>
            <a:xfrm>
              <a:off x="1285920" y="378612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8">
              <a:hlinkClick r:id="rId3" action="ppaction://hlinksldjump"/>
            </p:cNvPr>
            <p:cNvSpPr/>
            <p:nvPr/>
          </p:nvSpPr>
          <p:spPr>
            <a:xfrm>
              <a:off x="149976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健康状况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6"/>
          <p:cNvGrpSpPr/>
          <p:nvPr/>
        </p:nvGrpSpPr>
        <p:grpSpPr>
          <a:xfrm>
            <a:off x="4929120" y="1714680"/>
            <a:ext cx="2571840" cy="642600"/>
            <a:chOff x="4929120" y="1714680"/>
            <a:chExt cx="2571840" cy="642600"/>
          </a:xfrm>
        </p:grpSpPr>
        <p:sp>
          <p:nvSpPr>
            <p:cNvPr id="295" name="AutoShape 17"/>
            <p:cNvSpPr/>
            <p:nvPr/>
          </p:nvSpPr>
          <p:spPr>
            <a:xfrm>
              <a:off x="4929120" y="1786320"/>
              <a:ext cx="2571840" cy="570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Text Box 18">
              <a:hlinkClick r:id="rId4" action="ppaction://hlinksldjump"/>
            </p:cNvPr>
            <p:cNvSpPr/>
            <p:nvPr/>
          </p:nvSpPr>
          <p:spPr>
            <a:xfrm>
              <a:off x="5143320" y="171468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感觉功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97" name="AutoShape 17"/>
          <p:cNvSpPr/>
          <p:nvPr/>
        </p:nvSpPr>
        <p:spPr>
          <a:xfrm>
            <a:off x="4929120" y="2714760"/>
            <a:ext cx="2571840" cy="5713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18">
            <a:hlinkClick r:id="rId5" action="ppaction://hlinksldjump"/>
          </p:cNvPr>
          <p:cNvSpPr/>
          <p:nvPr/>
        </p:nvSpPr>
        <p:spPr>
          <a:xfrm>
            <a:off x="5143680" y="2714760"/>
            <a:ext cx="20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环境因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9" name="Group 16"/>
          <p:cNvGrpSpPr/>
          <p:nvPr/>
        </p:nvGrpSpPr>
        <p:grpSpPr>
          <a:xfrm>
            <a:off x="4929120" y="3714840"/>
            <a:ext cx="2571840" cy="642960"/>
            <a:chOff x="4929120" y="3714840"/>
            <a:chExt cx="2571840" cy="642960"/>
          </a:xfrm>
        </p:grpSpPr>
        <p:sp>
          <p:nvSpPr>
            <p:cNvPr id="300" name="AutoShape 17"/>
            <p:cNvSpPr/>
            <p:nvPr/>
          </p:nvSpPr>
          <p:spPr>
            <a:xfrm>
              <a:off x="4929120" y="3786480"/>
              <a:ext cx="25718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8">
              <a:hlinkClick r:id="rId6" action="ppaction://hlinksldjump"/>
            </p:cNvPr>
            <p:cNvSpPr/>
            <p:nvPr/>
          </p:nvSpPr>
          <p:spPr>
            <a:xfrm>
              <a:off x="5143320" y="3714840"/>
              <a:ext cx="209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诊疗方法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16"/>
          <p:cNvGrpSpPr/>
          <p:nvPr/>
        </p:nvGrpSpPr>
        <p:grpSpPr>
          <a:xfrm>
            <a:off x="2571840" y="4929120"/>
            <a:ext cx="3929040" cy="642960"/>
            <a:chOff x="2571840" y="4929120"/>
            <a:chExt cx="3929040" cy="642960"/>
          </a:xfrm>
        </p:grpSpPr>
        <p:sp>
          <p:nvSpPr>
            <p:cNvPr id="303" name="AutoShape 17"/>
            <p:cNvSpPr/>
            <p:nvPr/>
          </p:nvSpPr>
          <p:spPr>
            <a:xfrm>
              <a:off x="2571840" y="5000760"/>
              <a:ext cx="3929040" cy="5713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8">
              <a:hlinkClick r:id="rId7" action="ppaction://hlinksldjump"/>
            </p:cNvPr>
            <p:cNvSpPr/>
            <p:nvPr/>
          </p:nvSpPr>
          <p:spPr>
            <a:xfrm>
              <a:off x="2928600" y="4929120"/>
              <a:ext cx="32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务人员因素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7" name="Picture 7" descr="abstract-design-with-beautiful-flowers1"/>
          <p:cNvPicPr/>
          <p:nvPr/>
        </p:nvPicPr>
        <p:blipFill>
          <a:blip r:embed="rId1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1285920" y="214200"/>
            <a:ext cx="785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医院常见不安全因素及防范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AutoShape 14"/>
          <p:cNvSpPr/>
          <p:nvPr/>
        </p:nvSpPr>
        <p:spPr>
          <a:xfrm>
            <a:off x="2714760" y="2357280"/>
            <a:ext cx="401148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15"/>
          <p:cNvSpPr/>
          <p:nvPr/>
        </p:nvSpPr>
        <p:spPr>
          <a:xfrm>
            <a:off x="2714760" y="3357720"/>
            <a:ext cx="4011480" cy="81900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16"/>
          <p:cNvSpPr/>
          <p:nvPr/>
        </p:nvSpPr>
        <p:spPr>
          <a:xfrm>
            <a:off x="2714760" y="4286160"/>
            <a:ext cx="4010040" cy="8175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3143160" y="2428920"/>
            <a:ext cx="34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化学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3" name="Group 19"/>
          <p:cNvGrpSpPr/>
          <p:nvPr/>
        </p:nvGrpSpPr>
        <p:grpSpPr>
          <a:xfrm>
            <a:off x="2714760" y="5357880"/>
            <a:ext cx="4011480" cy="821160"/>
            <a:chOff x="2714760" y="5357880"/>
            <a:chExt cx="4011480" cy="821160"/>
          </a:xfrm>
        </p:grpSpPr>
        <p:sp>
          <p:nvSpPr>
            <p:cNvPr id="314" name="AutoShape 20"/>
            <p:cNvSpPr/>
            <p:nvPr/>
          </p:nvSpPr>
          <p:spPr>
            <a:xfrm>
              <a:off x="2714760" y="5357880"/>
              <a:ext cx="40114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1">
              <a:hlinkClick r:id="rId2" action="ppaction://hlinksldjump"/>
            </p:cNvPr>
            <p:cNvSpPr/>
            <p:nvPr/>
          </p:nvSpPr>
          <p:spPr>
            <a:xfrm>
              <a:off x="3179520" y="5414760"/>
              <a:ext cx="310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6" name="Text Box 22"/>
          <p:cNvSpPr/>
          <p:nvPr/>
        </p:nvSpPr>
        <p:spPr>
          <a:xfrm>
            <a:off x="3143160" y="3357720"/>
            <a:ext cx="320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生物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3071880" y="4286160"/>
            <a:ext cx="350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6ca6"/>
                </a:solidFill>
                <a:latin typeface="Arial"/>
                <a:ea typeface="楷体"/>
              </a:rPr>
              <a:t> </a:t>
            </a: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心理性损伤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8" name="Group 19"/>
          <p:cNvGrpSpPr/>
          <p:nvPr/>
        </p:nvGrpSpPr>
        <p:grpSpPr>
          <a:xfrm>
            <a:off x="2643120" y="1428840"/>
            <a:ext cx="4011840" cy="821160"/>
            <a:chOff x="2643120" y="1428840"/>
            <a:chExt cx="4011840" cy="821160"/>
          </a:xfrm>
        </p:grpSpPr>
        <p:sp>
          <p:nvSpPr>
            <p:cNvPr id="319" name="AutoShape 20"/>
            <p:cNvSpPr/>
            <p:nvPr/>
          </p:nvSpPr>
          <p:spPr>
            <a:xfrm>
              <a:off x="2643120" y="1428840"/>
              <a:ext cx="4011840" cy="81900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Text Box 21">
              <a:hlinkClick r:id="rId3" action="ppaction://hlinksldjump"/>
            </p:cNvPr>
            <p:cNvSpPr/>
            <p:nvPr/>
          </p:nvSpPr>
          <p:spPr>
            <a:xfrm>
              <a:off x="3146040" y="1485720"/>
              <a:ext cx="310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9"/>
          <p:cNvGrpSpPr/>
          <p:nvPr/>
        </p:nvGrpSpPr>
        <p:grpSpPr>
          <a:xfrm>
            <a:off x="2627280" y="1197000"/>
            <a:ext cx="4013280" cy="835200"/>
            <a:chOff x="2627280" y="1197000"/>
            <a:chExt cx="4013280" cy="835200"/>
          </a:xfrm>
        </p:grpSpPr>
        <p:sp>
          <p:nvSpPr>
            <p:cNvPr id="322" name="AutoShape 20"/>
            <p:cNvSpPr/>
            <p:nvPr/>
          </p:nvSpPr>
          <p:spPr>
            <a:xfrm>
              <a:off x="2627280" y="119700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21">
              <a:hlinkClick r:id="rId1" action="ppaction://hlinksldjump"/>
            </p:cNvPr>
            <p:cNvSpPr/>
            <p:nvPr/>
          </p:nvSpPr>
          <p:spPr>
            <a:xfrm>
              <a:off x="3198960" y="126792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物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Rectangle 1"/>
          <p:cNvSpPr/>
          <p:nvPr/>
        </p:nvSpPr>
        <p:spPr>
          <a:xfrm>
            <a:off x="324000" y="2805120"/>
            <a:ext cx="8501040" cy="248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机械性损伤  常见有跌伤、撞伤、阻塞等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昏迷、神志不清、躁动不安的患者及婴儿可用床档保护，必要时可用约束带和保护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年老体弱，行动不便的患者应给予搀扶，常用物品应放在其容易拿取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"/>
          <p:cNvSpPr/>
          <p:nvPr/>
        </p:nvSpPr>
        <p:spPr>
          <a:xfrm>
            <a:off x="285840" y="1933920"/>
            <a:ext cx="8858160" cy="640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病室内地面应注意保持干燥、整洁，室内物品应放置稳妥，移开暂时不需要的物品，减少障碍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患者走廊、浴室、厕所应设置扶手，供患者活动不便时使用，浴室和厕所还应设置呼叫系统，以利患者必要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各种导管、器械进行操作时，应掌握操作规程，动作轻柔，防止损伤患者皮肤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有精神障碍或情绪不稳定的患者，应注意将刀片、剪刀等锐器、钝器保管好，不让患者接触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"/>
          <p:cNvSpPr/>
          <p:nvPr/>
        </p:nvSpPr>
        <p:spPr>
          <a:xfrm>
            <a:off x="1692000" y="1817280"/>
            <a:ext cx="5461560" cy="4315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温度性损伤 常见有烫伤、冻伤、灼伤、烧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在应用冷、热疗法时，应严格掌握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作要求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小儿或容易受伤的患者在热疗期间有专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陪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易燃易爆的物品应妥善保管，并设有防火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医院内各种电器设备应经常检查，及时维修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1784520" y="2015280"/>
            <a:ext cx="524808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压力性损伤  常见有压疮、气压伤、肺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加强对危重患者或长期卧床患者的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用高压氧舱治疗时，应掌握适应证，治疗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逐渐加压或减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输液时应根据病情，掌握输液的速度及压力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密切观察输液反应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楷体_GB2312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06520" y="192888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主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4000680" y="1071720"/>
            <a:ext cx="4786200" cy="1919520"/>
          </a:xfrm>
          <a:prstGeom prst="cloudCallout">
            <a:avLst>
              <a:gd name="adj1" fmla="val -87828"/>
              <a:gd name="adj2" fmla="val 2243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身体活动自如，能根据自己的意愿和习惯随意采取舒适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71720" y="2928960"/>
            <a:ext cx="1892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动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071720" y="4214880"/>
            <a:ext cx="198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52e46"/>
                </a:solidFill>
                <a:latin typeface="宋体"/>
                <a:ea typeface="宋体"/>
              </a:rPr>
              <a:t>被迫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3657600" y="2895480"/>
            <a:ext cx="5057640" cy="2176560"/>
          </a:xfrm>
          <a:prstGeom prst="wedgeEllipseCallout">
            <a:avLst>
              <a:gd name="adj1" fmla="val -68421"/>
              <a:gd name="adj2" fmla="val -31439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自身无变换卧位的能力，由他人帮助安置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3357720" y="3214800"/>
            <a:ext cx="5786280" cy="3281400"/>
          </a:xfrm>
          <a:prstGeom prst="cloudCallout">
            <a:avLst>
              <a:gd name="adj1" fmla="val -72726"/>
              <a:gd name="adj2" fmla="val -390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患者意识清楚，具有变换卧位的能力，但为了减轻疾病所致的痛苦或因治疗的需要，被迫采取的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4187880" y="285840"/>
            <a:ext cx="4956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一、卧位的性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142920" y="1447920"/>
            <a:ext cx="8531280" cy="4157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放射性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在使用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射线及其他放射性物质进行诊断或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疗时，要对在场人员采取适当的保护措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于接受放射性诊断或治疗的患者，应尽量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少患者身体不必要的暴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对患者进行健康教育，保持接受放射部位皮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清洁干燥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0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21">
              <a:hlinkClick r:id="rId1" action="ppaction://hlinksldjump"/>
            </p:cNvPr>
            <p:cNvSpPr/>
            <p:nvPr/>
          </p:nvSpPr>
          <p:spPr>
            <a:xfrm>
              <a:off x="321408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化学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Rectangle 1"/>
          <p:cNvSpPr/>
          <p:nvPr/>
        </p:nvSpPr>
        <p:spPr>
          <a:xfrm>
            <a:off x="73080" y="1819800"/>
            <a:ext cx="90709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护理人员应具备一定的药理知识，掌握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的保管原则和药疗原则；用药时，严格“三查七对”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药物应新鲜配制，注意配伍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及时观察患者用药后的反应等，同时还应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及家属讲解安全用药的有关知识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4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生物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73080" y="2779560"/>
            <a:ext cx="907092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控制感染源，切断传播途径，保护易感人群。具体措施为严格执行消毒隔离制度，遵守无菌技术操作原则，加强危重患者的护理、增强患者的体质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）应采取有力措施消灭蚊、蝇、虱、蚤、蟑螂等昆虫并加强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38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心理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0" name="Rectangle 1"/>
          <p:cNvSpPr/>
          <p:nvPr/>
        </p:nvSpPr>
        <p:spPr>
          <a:xfrm>
            <a:off x="73080" y="2273040"/>
            <a:ext cx="9070920" cy="3649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护士应重视患者的心理护理，注意自身的行为举止，避免传递不良信息，造成患者情绪波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与患者建立良好的关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应以高质量的护理行为取得患者的信任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注意对患者进行有关疾病知识的健康教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对于精神障碍的患者、病情危重失去自信心的患者，应加强监护，防止发生各种意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9"/>
          <p:cNvGrpSpPr/>
          <p:nvPr/>
        </p:nvGrpSpPr>
        <p:grpSpPr>
          <a:xfrm>
            <a:off x="2643120" y="1000080"/>
            <a:ext cx="4013280" cy="835200"/>
            <a:chOff x="2643120" y="1000080"/>
            <a:chExt cx="4013280" cy="835200"/>
          </a:xfrm>
        </p:grpSpPr>
        <p:sp>
          <p:nvSpPr>
            <p:cNvPr id="342" name="AutoShape 20"/>
            <p:cNvSpPr/>
            <p:nvPr/>
          </p:nvSpPr>
          <p:spPr>
            <a:xfrm>
              <a:off x="2643120" y="1000080"/>
              <a:ext cx="4013280" cy="819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21">
              <a:hlinkClick r:id="rId1" action="ppaction://hlinksldjump"/>
            </p:cNvPr>
            <p:cNvSpPr/>
            <p:nvPr/>
          </p:nvSpPr>
          <p:spPr>
            <a:xfrm>
              <a:off x="3214800" y="1071000"/>
              <a:ext cx="3103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医源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4" name="Rectangle 1"/>
          <p:cNvSpPr/>
          <p:nvPr/>
        </p:nvSpPr>
        <p:spPr>
          <a:xfrm>
            <a:off x="571680" y="2448000"/>
            <a:ext cx="8072280" cy="3292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防范措施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院要加强思想教育，培养医护人员良好的医德医风，提高素质，严格执行各项规章制度和操作规程，做到有效的防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医务人员应保持良好的服务态度，并制订相应的措施以杜绝差错事故，做到有效防范，保障患者的安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>
            <a:off x="112680" y="3349800"/>
            <a:ext cx="3129120" cy="72684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3214800" y="14292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三、保护具的使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111240" y="3349800"/>
            <a:ext cx="334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保护具的定义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AutoShape 18"/>
          <p:cNvSpPr/>
          <p:nvPr/>
        </p:nvSpPr>
        <p:spPr>
          <a:xfrm>
            <a:off x="4125960" y="1390680"/>
            <a:ext cx="4838760" cy="4152960"/>
          </a:xfrm>
          <a:prstGeom prst="wedgeRoundRectCallout">
            <a:avLst>
              <a:gd name="adj1" fmla="val -64402"/>
              <a:gd name="adj2" fmla="val 764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用来限制患者身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某部位的活动，以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达到维护患者安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与治疗效果的各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器具。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250920" y="3349800"/>
            <a:ext cx="2346120" cy="79992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11040" y="3349800"/>
            <a:ext cx="334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适用范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3286080" y="2214720"/>
            <a:ext cx="5550120" cy="3590640"/>
          </a:xfrm>
          <a:prstGeom prst="wedgeRoundRectCallout">
            <a:avLst>
              <a:gd name="adj1" fmla="val -62555"/>
              <a:gd name="adj2" fmla="val -844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易发生坠床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儿科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实施某些眼科特殊手术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精神障碍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长期卧床、极度消瘦、虚弱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皮肤瘙痒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6"/>
          <p:cNvGrpSpPr/>
          <p:nvPr/>
        </p:nvGrpSpPr>
        <p:grpSpPr>
          <a:xfrm>
            <a:off x="1000080" y="2071800"/>
            <a:ext cx="7416720" cy="3097080"/>
            <a:chOff x="1000080" y="2071800"/>
            <a:chExt cx="7416720" cy="3097080"/>
          </a:xfrm>
        </p:grpSpPr>
        <p:sp>
          <p:nvSpPr>
            <p:cNvPr id="355" name="AutoShape 17"/>
            <p:cNvSpPr/>
            <p:nvPr/>
          </p:nvSpPr>
          <p:spPr>
            <a:xfrm>
              <a:off x="1000080" y="2071800"/>
              <a:ext cx="7416720" cy="3097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18"/>
            <p:cNvSpPr/>
            <p:nvPr/>
          </p:nvSpPr>
          <p:spPr>
            <a:xfrm>
              <a:off x="1341360" y="2883240"/>
              <a:ext cx="7075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46ca6"/>
                  </a:solidFill>
                  <a:latin typeface="Arial"/>
                  <a:ea typeface="楷体"/>
                </a:rPr>
                <a:t>      </a:t>
              </a: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常用保护具的实质是防止上述人群的机械性损伤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6"/>
          <p:cNvGrpSpPr/>
          <p:nvPr/>
        </p:nvGrpSpPr>
        <p:grpSpPr>
          <a:xfrm>
            <a:off x="1542600" y="2143080"/>
            <a:ext cx="854640" cy="2629080"/>
            <a:chOff x="1542600" y="2143080"/>
            <a:chExt cx="854640" cy="2629080"/>
          </a:xfrm>
        </p:grpSpPr>
        <p:sp>
          <p:nvSpPr>
            <p:cNvPr id="358" name="AutoShape 17"/>
            <p:cNvSpPr/>
            <p:nvPr/>
          </p:nvSpPr>
          <p:spPr>
            <a:xfrm>
              <a:off x="1542600" y="2143080"/>
              <a:ext cx="85464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>
              <a:off x="1546560" y="2590560"/>
              <a:ext cx="85068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0" name="AutoShape 28"/>
          <p:cNvSpPr/>
          <p:nvPr/>
        </p:nvSpPr>
        <p:spPr>
          <a:xfrm>
            <a:off x="3786120" y="2071800"/>
            <a:ext cx="3430800" cy="3319200"/>
          </a:xfrm>
          <a:prstGeom prst="wedgeRoundRectCallout">
            <a:avLst>
              <a:gd name="adj1" fmla="val -88555"/>
              <a:gd name="adj2" fmla="val -1241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防坠床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64" name="图片 32" descr="图7-20 多功能床档.jpg"/>
          <p:cNvPicPr/>
          <p:nvPr/>
        </p:nvPicPr>
        <p:blipFill>
          <a:blip r:embed="rId1"/>
          <a:stretch/>
        </p:blipFill>
        <p:spPr>
          <a:xfrm>
            <a:off x="2286000" y="1785960"/>
            <a:ext cx="5857920" cy="30938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多功能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28800" y="149976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  <a:ea typeface="宋体"/>
              </a:rPr>
              <a:t>（一）仰卧位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  <a:ea typeface="宋体"/>
              </a:rPr>
              <a:t>(supine position)</a:t>
            </a:r>
            <a:r>
              <a:rPr b="0" lang="en-US" sz="3600" spc="-1" strike="noStrike">
                <a:solidFill>
                  <a:srgbClr val="0d0d0d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屈膝仰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214280" y="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二、常用的各种卧位及其基本要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67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9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半自动床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0" name="图片 7" descr="图7-21 半自动床档.jpg"/>
          <p:cNvPicPr/>
          <p:nvPr/>
        </p:nvPicPr>
        <p:blipFill>
          <a:blip r:embed="rId1"/>
          <a:stretch/>
        </p:blipFill>
        <p:spPr>
          <a:xfrm>
            <a:off x="2286000" y="1857240"/>
            <a:ext cx="6048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6"/>
          <p:cNvGrpSpPr/>
          <p:nvPr/>
        </p:nvGrpSpPr>
        <p:grpSpPr>
          <a:xfrm>
            <a:off x="656640" y="2266920"/>
            <a:ext cx="854640" cy="2629080"/>
            <a:chOff x="656640" y="2266920"/>
            <a:chExt cx="854640" cy="2629080"/>
          </a:xfrm>
        </p:grpSpPr>
        <p:sp>
          <p:nvSpPr>
            <p:cNvPr id="372" name="AutoShape 17"/>
            <p:cNvSpPr/>
            <p:nvPr/>
          </p:nvSpPr>
          <p:spPr>
            <a:xfrm>
              <a:off x="65664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Text Box 18"/>
            <p:cNvSpPr/>
            <p:nvPr/>
          </p:nvSpPr>
          <p:spPr>
            <a:xfrm>
              <a:off x="660600" y="2714400"/>
              <a:ext cx="850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床 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4" name="Group 25"/>
          <p:cNvGrpSpPr/>
          <p:nvPr/>
        </p:nvGrpSpPr>
        <p:grpSpPr>
          <a:xfrm>
            <a:off x="2500200" y="1428840"/>
            <a:ext cx="5715000" cy="4764960"/>
            <a:chOff x="2500200" y="1428840"/>
            <a:chExt cx="5715000" cy="4764960"/>
          </a:xfrm>
        </p:grpSpPr>
        <p:pic>
          <p:nvPicPr>
            <p:cNvPr id="375" name="Picture 26" descr="木杆床档"/>
            <p:cNvPicPr/>
            <p:nvPr/>
          </p:nvPicPr>
          <p:blipFill>
            <a:blip r:embed="rId1"/>
            <a:stretch/>
          </p:blipFill>
          <p:spPr>
            <a:xfrm>
              <a:off x="2500200" y="1428840"/>
              <a:ext cx="571500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27"/>
            <p:cNvSpPr/>
            <p:nvPr/>
          </p:nvSpPr>
          <p:spPr>
            <a:xfrm>
              <a:off x="4071960" y="5429520"/>
              <a:ext cx="2704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木杆床档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13"/>
          <p:cNvGrpSpPr/>
          <p:nvPr/>
        </p:nvGrpSpPr>
        <p:grpSpPr>
          <a:xfrm>
            <a:off x="-9720" y="2519280"/>
            <a:ext cx="1521000" cy="2781360"/>
            <a:chOff x="-9720" y="2519280"/>
            <a:chExt cx="1521000" cy="2781360"/>
          </a:xfrm>
        </p:grpSpPr>
        <p:sp>
          <p:nvSpPr>
            <p:cNvPr id="378" name="AutoShape 14"/>
            <p:cNvSpPr/>
            <p:nvPr/>
          </p:nvSpPr>
          <p:spPr>
            <a:xfrm>
              <a:off x="657000" y="251928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-9720" y="303660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0" name="AutoShape 16"/>
          <p:cNvSpPr/>
          <p:nvPr/>
        </p:nvSpPr>
        <p:spPr>
          <a:xfrm>
            <a:off x="2486160" y="2182680"/>
            <a:ext cx="5470560" cy="3117960"/>
          </a:xfrm>
          <a:prstGeom prst="wedgeRoundRectCallout">
            <a:avLst>
              <a:gd name="adj1" fmla="val -64597"/>
              <a:gd name="adj2" fmla="val -122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目的：约束肢体行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且或保持肢体功能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16"/>
          <p:cNvGrpSpPr/>
          <p:nvPr/>
        </p:nvGrpSpPr>
        <p:grpSpPr>
          <a:xfrm>
            <a:off x="-9720" y="2266920"/>
            <a:ext cx="1521000" cy="2629080"/>
            <a:chOff x="-9720" y="2266920"/>
            <a:chExt cx="1521000" cy="2629080"/>
          </a:xfrm>
        </p:grpSpPr>
        <p:sp>
          <p:nvSpPr>
            <p:cNvPr id="382" name="AutoShape 17"/>
            <p:cNvSpPr/>
            <p:nvPr/>
          </p:nvSpPr>
          <p:spPr>
            <a:xfrm>
              <a:off x="657000" y="2266920"/>
              <a:ext cx="854280" cy="262908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 Box 18"/>
            <p:cNvSpPr/>
            <p:nvPr/>
          </p:nvSpPr>
          <p:spPr>
            <a:xfrm>
              <a:off x="-9720" y="2714400"/>
              <a:ext cx="152100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" name="Text Box 27"/>
          <p:cNvSpPr/>
          <p:nvPr/>
        </p:nvSpPr>
        <p:spPr>
          <a:xfrm>
            <a:off x="342900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手肘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图片 8" descr="图7-23 手肘约束带.jpg"/>
          <p:cNvPicPr/>
          <p:nvPr/>
        </p:nvPicPr>
        <p:blipFill>
          <a:blip r:embed="rId1"/>
          <a:srcRect l="0" t="0" r="0" b="10000"/>
          <a:stretch/>
        </p:blipFill>
        <p:spPr>
          <a:xfrm>
            <a:off x="2143080" y="1571760"/>
            <a:ext cx="631512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87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9" name="Text Box 27"/>
          <p:cNvSpPr/>
          <p:nvPr/>
        </p:nvSpPr>
        <p:spPr>
          <a:xfrm>
            <a:off x="3714840" y="5214960"/>
            <a:ext cx="327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肘部保护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图片 7" descr="图7-24 肘部保护器.jpg"/>
          <p:cNvPicPr/>
          <p:nvPr/>
        </p:nvPicPr>
        <p:blipFill>
          <a:blip r:embed="rId1"/>
          <a:stretch/>
        </p:blipFill>
        <p:spPr>
          <a:xfrm>
            <a:off x="3143160" y="1571760"/>
            <a:ext cx="4214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16"/>
          <p:cNvGrpSpPr/>
          <p:nvPr/>
        </p:nvGrpSpPr>
        <p:grpSpPr>
          <a:xfrm>
            <a:off x="412560" y="2071800"/>
            <a:ext cx="1521000" cy="2628720"/>
            <a:chOff x="412560" y="2071800"/>
            <a:chExt cx="1521000" cy="2628720"/>
          </a:xfrm>
        </p:grpSpPr>
        <p:sp>
          <p:nvSpPr>
            <p:cNvPr id="392" name="AutoShape 17"/>
            <p:cNvSpPr/>
            <p:nvPr/>
          </p:nvSpPr>
          <p:spPr>
            <a:xfrm>
              <a:off x="1079280" y="2071800"/>
              <a:ext cx="85428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1256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4" name="Text Box 27"/>
          <p:cNvSpPr/>
          <p:nvPr/>
        </p:nvSpPr>
        <p:spPr>
          <a:xfrm>
            <a:off x="3929040" y="521496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手套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5" name="图片 8" descr="图7-25 约束手套.jpg"/>
          <p:cNvPicPr/>
          <p:nvPr/>
        </p:nvPicPr>
        <p:blipFill>
          <a:blip r:embed="rId1"/>
          <a:stretch/>
        </p:blipFill>
        <p:spPr>
          <a:xfrm>
            <a:off x="3286080" y="1714680"/>
            <a:ext cx="3895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16"/>
          <p:cNvGrpSpPr/>
          <p:nvPr/>
        </p:nvGrpSpPr>
        <p:grpSpPr>
          <a:xfrm>
            <a:off x="55440" y="2071800"/>
            <a:ext cx="1521000" cy="2628720"/>
            <a:chOff x="55440" y="2071800"/>
            <a:chExt cx="1521000" cy="2628720"/>
          </a:xfrm>
        </p:grpSpPr>
        <p:sp>
          <p:nvSpPr>
            <p:cNvPr id="397" name="AutoShape 17"/>
            <p:cNvSpPr/>
            <p:nvPr/>
          </p:nvSpPr>
          <p:spPr>
            <a:xfrm>
              <a:off x="721800" y="2071800"/>
              <a:ext cx="854640" cy="2628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8"/>
            <p:cNvSpPr/>
            <p:nvPr/>
          </p:nvSpPr>
          <p:spPr>
            <a:xfrm>
              <a:off x="55440" y="2519280"/>
              <a:ext cx="1521000" cy="18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3929040" y="5500800"/>
            <a:ext cx="264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约束衣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0" name="图片 7" descr="图7-26 约束衣.jpg"/>
          <p:cNvPicPr/>
          <p:nvPr/>
        </p:nvPicPr>
        <p:blipFill>
          <a:blip r:embed="rId1"/>
          <a:stretch/>
        </p:blipFill>
        <p:spPr>
          <a:xfrm>
            <a:off x="2214720" y="1428840"/>
            <a:ext cx="57150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16"/>
          <p:cNvGrpSpPr/>
          <p:nvPr/>
        </p:nvGrpSpPr>
        <p:grpSpPr>
          <a:xfrm>
            <a:off x="55440" y="2071800"/>
            <a:ext cx="1521000" cy="3357360"/>
            <a:chOff x="55440" y="2071800"/>
            <a:chExt cx="1521000" cy="3357360"/>
          </a:xfrm>
        </p:grpSpPr>
        <p:sp>
          <p:nvSpPr>
            <p:cNvPr id="402" name="AutoShape 17"/>
            <p:cNvSpPr/>
            <p:nvPr/>
          </p:nvSpPr>
          <p:spPr>
            <a:xfrm>
              <a:off x="721800" y="2071800"/>
              <a:ext cx="85464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Text Box 18"/>
            <p:cNvSpPr/>
            <p:nvPr/>
          </p:nvSpPr>
          <p:spPr>
            <a:xfrm>
              <a:off x="55440" y="221436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4" name="Text Box 27"/>
          <p:cNvSpPr/>
          <p:nvPr/>
        </p:nvSpPr>
        <p:spPr>
          <a:xfrm>
            <a:off x="4000680" y="507204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5" name="图片 8" descr="图7-27 肩部约束带.jpg"/>
          <p:cNvPicPr/>
          <p:nvPr/>
        </p:nvPicPr>
        <p:blipFill>
          <a:blip r:embed="rId1"/>
          <a:stretch/>
        </p:blipFill>
        <p:spPr>
          <a:xfrm>
            <a:off x="2432160" y="1774800"/>
            <a:ext cx="57117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16"/>
          <p:cNvGrpSpPr/>
          <p:nvPr/>
        </p:nvGrpSpPr>
        <p:grpSpPr>
          <a:xfrm>
            <a:off x="555480" y="1857240"/>
            <a:ext cx="1521000" cy="3357720"/>
            <a:chOff x="555480" y="1857240"/>
            <a:chExt cx="1521000" cy="3357720"/>
          </a:xfrm>
        </p:grpSpPr>
        <p:sp>
          <p:nvSpPr>
            <p:cNvPr id="407" name="AutoShape 17"/>
            <p:cNvSpPr/>
            <p:nvPr/>
          </p:nvSpPr>
          <p:spPr>
            <a:xfrm>
              <a:off x="1221840" y="18572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Text Box 18"/>
            <p:cNvSpPr/>
            <p:nvPr/>
          </p:nvSpPr>
          <p:spPr>
            <a:xfrm>
              <a:off x="555480" y="19998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9" name="Text Box 27"/>
          <p:cNvSpPr/>
          <p:nvPr/>
        </p:nvSpPr>
        <p:spPr>
          <a:xfrm>
            <a:off x="2928960" y="514368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约束带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0" name="图片 7" descr="图7-28 肩部约束带固定法.jpg"/>
          <p:cNvPicPr/>
          <p:nvPr/>
        </p:nvPicPr>
        <p:blipFill>
          <a:blip r:embed="rId1"/>
          <a:stretch/>
        </p:blipFill>
        <p:spPr>
          <a:xfrm>
            <a:off x="3500280" y="1643040"/>
            <a:ext cx="37864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12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肩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4" name="Text Box 27"/>
          <p:cNvSpPr/>
          <p:nvPr/>
        </p:nvSpPr>
        <p:spPr>
          <a:xfrm>
            <a:off x="3357720" y="507204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肩部大单固定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5" name="图片 8" descr="图7-29 肩部大单固定法.jpg"/>
          <p:cNvPicPr/>
          <p:nvPr/>
        </p:nvPicPr>
        <p:blipFill>
          <a:blip r:embed="rId1"/>
          <a:srcRect l="27332" t="0" r="0" b="0"/>
          <a:stretch/>
        </p:blipFill>
        <p:spPr>
          <a:xfrm>
            <a:off x="2857680" y="2143080"/>
            <a:ext cx="5000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4429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去枕仰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500076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昏迷或全身麻醉未清醒的患者。可防止呕吐物误入气管而引起窒息或肺部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椎管内麻醉或脊髓腔穿刺后的患者。可预防颅内压降低而引起的头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剪贴画占位符 5" descr="图7-1 去枕仰卧位.jpg"/>
          <p:cNvPicPr/>
          <p:nvPr/>
        </p:nvPicPr>
        <p:blipFill>
          <a:blip r:embed="rId3"/>
          <a:stretch/>
        </p:blipFill>
        <p:spPr>
          <a:xfrm>
            <a:off x="5500800" y="2571840"/>
            <a:ext cx="3473280" cy="1998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5500800" y="4500720"/>
            <a:ext cx="3500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去枕仰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6"/>
          <p:cNvGrpSpPr/>
          <p:nvPr/>
        </p:nvGrpSpPr>
        <p:grpSpPr>
          <a:xfrm>
            <a:off x="126720" y="1714680"/>
            <a:ext cx="1521000" cy="3357360"/>
            <a:chOff x="126720" y="1714680"/>
            <a:chExt cx="1521000" cy="3357360"/>
          </a:xfrm>
        </p:grpSpPr>
        <p:sp>
          <p:nvSpPr>
            <p:cNvPr id="417" name="AutoShape 17"/>
            <p:cNvSpPr/>
            <p:nvPr/>
          </p:nvSpPr>
          <p:spPr>
            <a:xfrm>
              <a:off x="793440" y="1714680"/>
              <a:ext cx="854280" cy="3357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18"/>
            <p:cNvSpPr/>
            <p:nvPr/>
          </p:nvSpPr>
          <p:spPr>
            <a:xfrm>
              <a:off x="126720" y="1857240"/>
              <a:ext cx="152100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宽布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Text Box 27"/>
          <p:cNvSpPr/>
          <p:nvPr/>
        </p:nvSpPr>
        <p:spPr>
          <a:xfrm>
            <a:off x="6215040" y="20718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双套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0" name="图片 7" descr="图7-30 双套结.jpg"/>
          <p:cNvPicPr/>
          <p:nvPr/>
        </p:nvPicPr>
        <p:blipFill>
          <a:blip r:embed="rId1"/>
          <a:stretch/>
        </p:blipFill>
        <p:spPr>
          <a:xfrm>
            <a:off x="2143080" y="1285920"/>
            <a:ext cx="3100320" cy="2071800"/>
          </a:xfrm>
          <a:prstGeom prst="rect">
            <a:avLst/>
          </a:prstGeom>
          <a:ln w="0">
            <a:noFill/>
          </a:ln>
        </p:spPr>
      </p:pic>
      <p:pic>
        <p:nvPicPr>
          <p:cNvPr id="421" name="图片 9" descr="图7-31  宽布约束带.jpg"/>
          <p:cNvPicPr/>
          <p:nvPr/>
        </p:nvPicPr>
        <p:blipFill>
          <a:blip r:embed="rId2"/>
          <a:stretch/>
        </p:blipFill>
        <p:spPr>
          <a:xfrm>
            <a:off x="2214720" y="4143240"/>
            <a:ext cx="2927160" cy="168912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27"/>
          <p:cNvSpPr/>
          <p:nvPr/>
        </p:nvSpPr>
        <p:spPr>
          <a:xfrm>
            <a:off x="5857920" y="435780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宽布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6" name="Text Box 27"/>
          <p:cNvSpPr/>
          <p:nvPr/>
        </p:nvSpPr>
        <p:spPr>
          <a:xfrm>
            <a:off x="3786120" y="5072040"/>
            <a:ext cx="30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7" name="图片 7" descr="图7-32 膝部约束带.jpg"/>
          <p:cNvPicPr/>
          <p:nvPr/>
        </p:nvPicPr>
        <p:blipFill>
          <a:blip r:embed="rId1"/>
          <a:stretch/>
        </p:blipFill>
        <p:spPr>
          <a:xfrm>
            <a:off x="3286080" y="1785960"/>
            <a:ext cx="4203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29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Text Box 27"/>
          <p:cNvSpPr/>
          <p:nvPr/>
        </p:nvSpPr>
        <p:spPr>
          <a:xfrm>
            <a:off x="3500280" y="535788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2" name="图片 8" descr="图7-33 膝部约束带固定法.jpg"/>
          <p:cNvPicPr/>
          <p:nvPr/>
        </p:nvPicPr>
        <p:blipFill>
          <a:blip r:embed="rId1"/>
          <a:stretch/>
        </p:blipFill>
        <p:spPr>
          <a:xfrm>
            <a:off x="3429000" y="1285920"/>
            <a:ext cx="4429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34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" name="Text Box 18"/>
            <p:cNvSpPr/>
            <p:nvPr/>
          </p:nvSpPr>
          <p:spPr>
            <a:xfrm>
              <a:off x="555480" y="1785600"/>
              <a:ext cx="1521000" cy="28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膝部约束带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" name="Text Box 27"/>
          <p:cNvSpPr/>
          <p:nvPr/>
        </p:nvSpPr>
        <p:spPr>
          <a:xfrm>
            <a:off x="2786040" y="5214960"/>
            <a:ext cx="557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膝部约束带大单固定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37" name="图片 7" descr="图7-34 膝部大单固定法.jpg"/>
          <p:cNvPicPr/>
          <p:nvPr/>
        </p:nvPicPr>
        <p:blipFill>
          <a:blip r:embed="rId1"/>
          <a:stretch/>
        </p:blipFill>
        <p:spPr>
          <a:xfrm>
            <a:off x="3357720" y="1285920"/>
            <a:ext cx="40719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16"/>
          <p:cNvGrpSpPr/>
          <p:nvPr/>
        </p:nvGrpSpPr>
        <p:grpSpPr>
          <a:xfrm>
            <a:off x="686520" y="1643040"/>
            <a:ext cx="1399320" cy="4071960"/>
            <a:chOff x="686520" y="1643040"/>
            <a:chExt cx="1399320" cy="4071960"/>
          </a:xfrm>
        </p:grpSpPr>
        <p:sp>
          <p:nvSpPr>
            <p:cNvPr id="439" name="AutoShape 17"/>
            <p:cNvSpPr/>
            <p:nvPr/>
          </p:nvSpPr>
          <p:spPr>
            <a:xfrm>
              <a:off x="1222200" y="1643040"/>
              <a:ext cx="854280" cy="40719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686520" y="1785600"/>
              <a:ext cx="1399320" cy="38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尼龙搭扣约束带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1" name="Text Box 27"/>
          <p:cNvSpPr/>
          <p:nvPr/>
        </p:nvSpPr>
        <p:spPr>
          <a:xfrm>
            <a:off x="3500280" y="49291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尼龙搭扣约束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42" name="图片 8" descr="图7-35 尼龙搭扣约束带.jpg"/>
          <p:cNvPicPr/>
          <p:nvPr/>
        </p:nvPicPr>
        <p:blipFill>
          <a:blip r:embed="rId1"/>
          <a:stretch/>
        </p:blipFill>
        <p:spPr>
          <a:xfrm>
            <a:off x="3143160" y="2428920"/>
            <a:ext cx="433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3"/>
          <p:cNvGrpSpPr/>
          <p:nvPr/>
        </p:nvGrpSpPr>
        <p:grpSpPr>
          <a:xfrm>
            <a:off x="118800" y="2286000"/>
            <a:ext cx="1521000" cy="2781360"/>
            <a:chOff x="118800" y="2286000"/>
            <a:chExt cx="1521000" cy="2781360"/>
          </a:xfrm>
        </p:grpSpPr>
        <p:sp>
          <p:nvSpPr>
            <p:cNvPr id="444" name="AutoShape 14"/>
            <p:cNvSpPr/>
            <p:nvPr/>
          </p:nvSpPr>
          <p:spPr>
            <a:xfrm>
              <a:off x="785520" y="2286000"/>
              <a:ext cx="854280" cy="278136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" name="Text Box 15"/>
            <p:cNvSpPr/>
            <p:nvPr/>
          </p:nvSpPr>
          <p:spPr>
            <a:xfrm>
              <a:off x="118800" y="2803320"/>
              <a:ext cx="15210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6" name="AutoShape 19"/>
          <p:cNvSpPr/>
          <p:nvPr/>
        </p:nvSpPr>
        <p:spPr>
          <a:xfrm>
            <a:off x="2500200" y="1928880"/>
            <a:ext cx="6120000" cy="4021200"/>
          </a:xfrm>
          <a:prstGeom prst="wedgeRoundRectCallout">
            <a:avLst>
              <a:gd name="adj1" fmla="val -62217"/>
              <a:gd name="adj2" fmla="val -74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目的：主要用于肢体瘫痪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或极度虚弱的患者，防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盖被压迫肢体，造成不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和足下垂。也可用于烧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患者的暴露疗法而需要保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宋体"/>
                <a:ea typeface="宋体"/>
              </a:rPr>
              <a:t>暖时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16"/>
          <p:cNvGrpSpPr/>
          <p:nvPr/>
        </p:nvGrpSpPr>
        <p:grpSpPr>
          <a:xfrm>
            <a:off x="555480" y="1643040"/>
            <a:ext cx="1521000" cy="3357720"/>
            <a:chOff x="555480" y="1643040"/>
            <a:chExt cx="1521000" cy="3357720"/>
          </a:xfrm>
        </p:grpSpPr>
        <p:sp>
          <p:nvSpPr>
            <p:cNvPr id="448" name="AutoShape 17"/>
            <p:cNvSpPr/>
            <p:nvPr/>
          </p:nvSpPr>
          <p:spPr>
            <a:xfrm>
              <a:off x="1221840" y="1643040"/>
              <a:ext cx="854640" cy="3357720"/>
            </a:xfrm>
            <a:prstGeom prst="flowChartAlternateProcess">
              <a:avLst/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555480" y="2214360"/>
              <a:ext cx="152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宋体"/>
                  <a:ea typeface="宋体"/>
                </a:rPr>
                <a:t>支被架</a:t>
              </a:r>
              <a:endParaRPr b="0" lang="en-US" sz="4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" name="Text Box 27"/>
          <p:cNvSpPr/>
          <p:nvPr/>
        </p:nvSpPr>
        <p:spPr>
          <a:xfrm>
            <a:off x="4572000" y="5357880"/>
            <a:ext cx="21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宋体"/>
                <a:ea typeface="宋体"/>
              </a:rPr>
              <a:t>支被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1" name="图片 8" descr="图7-36 支被架.jpg"/>
          <p:cNvPicPr/>
          <p:nvPr/>
        </p:nvPicPr>
        <p:blipFill>
          <a:blip r:embed="rId1"/>
          <a:stretch/>
        </p:blipFill>
        <p:spPr>
          <a:xfrm>
            <a:off x="3786120" y="1357200"/>
            <a:ext cx="307512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6"/>
          <p:cNvSpPr/>
          <p:nvPr/>
        </p:nvSpPr>
        <p:spPr>
          <a:xfrm>
            <a:off x="500040" y="1285920"/>
            <a:ext cx="50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Rectangle 1"/>
          <p:cNvSpPr/>
          <p:nvPr/>
        </p:nvSpPr>
        <p:spPr>
          <a:xfrm>
            <a:off x="2046960" y="1897200"/>
            <a:ext cx="5049720" cy="3932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掌握约束带应用的适应证，维护患者自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约束带只可短期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使用时，约束带下垫衬垫，松紧要适宜，并定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松解，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放松约束带一次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使用保护具的原因、时间、观察结果、相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护理措施及解除约束的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1000080" y="2236680"/>
            <a:ext cx="6929640" cy="2013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随时评价保护具使用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确保患者能随时与医务人员或陪护人员取得联系，保障患者的安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357680" y="285840"/>
            <a:ext cx="14288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小结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2600" y="157176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卧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疼痛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患者安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1143000"/>
            <a:ext cx="4429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中凹卧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85840" y="1857240"/>
            <a:ext cx="5000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适用范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休克患者。抬高头胸部，有利于保持气道通畅，改善缺氧症状；抬高下肢，有利于静脉血回流，增加心排出量而使休克症状得到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5429160" y="4214880"/>
            <a:ext cx="3500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中凹卧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4" name="剪贴画占位符 8" descr="图7-2 中凹卧位.jpg"/>
          <p:cNvPicPr/>
          <p:nvPr/>
        </p:nvPicPr>
        <p:blipFill>
          <a:blip r:embed="rId2"/>
          <a:stretch/>
        </p:blipFill>
        <p:spPr>
          <a:xfrm>
            <a:off x="5357880" y="2571840"/>
            <a:ext cx="34732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71800" y="357120"/>
            <a:ext cx="23576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测试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妊娠时胎膜早破，为防止脐带脱垂，应嘱孕妇采取（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卧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高足低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头低足高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截石位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气管哮喘发作时，患者应采取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屈膝仰卧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膝胸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端坐位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侧卧位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俯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20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18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下列关于护士为患者翻身时的注意事项错误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护士应注意节力原则，尽量让患者靠近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移动患者时动作应轻稳，协调一致，不可拖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皮肤发红应及时处理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患者敷料脱落应翻身后及时更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保持各种导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180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张某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9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大一学生，因准备期末考试，连续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天挑灯夜战后，出现剧烈头痛，以下不属于其疼痛原因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身体组织受牵连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情绪紧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疲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睡眠不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用脑过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儿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左下肢骨癌住院。为准确地评估患肢的疼痛程度，护士最好选用的评估工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面部表情疼痛评定法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文字描述评定法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数字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视觉模拟评分法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Prince-Henry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评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4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胃大部分切除术后第二天，针对该患者术后疼痛护理措施，不妥的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手术前教会患者深呼吸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病情稳定可给予半坐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可按压伤口后再咳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影响睡眠时可以酌情使用止痛药，并报告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马上使用阿片类止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358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双腿不慎被开水烫伤，可考虑为其选用的保护具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支被架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床档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肩部约束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腕部约束带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踝部约束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有关保护具的应用，错误的一项是（   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A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使用前向患者家属解释清楚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B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安置舒适的位置，经常更换卧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C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扎紧约束带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D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注意观察受约束部位的末梢循环情况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E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必要时对约束部位进行局部按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20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86720" y="214200"/>
            <a:ext cx="23572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女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45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因交通意外致颈椎骨折，右侧面部擦伤，失血约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，经救治后病情稳定，今日已行颅骨牵引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为患者安置哪种体位？应按什么样的要求进行安置？采用该体位的目的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71960" y="-582480"/>
            <a:ext cx="23572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患者，男，</a:t>
            </a:r>
            <a:r>
              <a:rPr b="1" lang="en-US" sz="2800" spc="-1" strike="noStrike">
                <a:solidFill>
                  <a:srgbClr val="0d0d0d"/>
                </a:solidFill>
                <a:latin typeface="Verdana"/>
                <a:ea typeface="宋体"/>
              </a:rPr>
              <a:t>56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岁，退休工人，诊断“肺癌晚期”入院，患者主诉胸痛难以忍受，眉头紧锁，剧烈咳嗽并伴有气喘，烦躁不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d0d0d"/>
                </a:solidFill>
                <a:latin typeface="Verdana"/>
                <a:ea typeface="宋体"/>
              </a:rPr>
              <a:t>请问：应选用哪种评估工具评估该患者的疼痛程度？护士在收集资料时，应了解哪些影响其疼痛的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dell</cp:lastModifiedBy>
  <dcterms:modified xsi:type="dcterms:W3CDTF">2016-01-07T02:18:23Z</dcterms:modified>
  <cp:revision>289</cp:revision>
  <dc:subject/>
  <dc:title>内科护理学</dc:title>
</cp:coreProperties>
</file>